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12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 rot="16200000">
            <a:off x="-1020600" y="6629040"/>
            <a:ext cx="45720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eaeaea"/>
                </a:solidFill>
                <a:latin typeface="Arial"/>
              </a:rPr>
              <a:t>NOTES</a:t>
            </a:r>
            <a:endParaRPr b="1" lang="en-US" sz="2400" spc="1" strike="noStrike">
              <a:ln w="0">
                <a:noFill/>
              </a:ln>
              <a:solidFill>
                <a:srgbClr val="eaeaea"/>
              </a:solidFill>
              <a:latin typeface="Arial"/>
              <a:ea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Crane Training Instit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"/>
              </a:rPr>
              <a:t>LGIC GDK16 Engineering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891720" y="743040"/>
            <a:ext cx="5062680" cy="379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1"/>
          </p:nvPr>
        </p:nvSpPr>
        <p:spPr>
          <a:xfrm>
            <a:off x="-36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</a:rPr>
              <a:t>Issue 1 , 14/9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2"/>
          </p:nvPr>
        </p:nvSpPr>
        <p:spPr>
          <a:xfrm>
            <a:off x="3835080" y="94107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4AABF73-3601-434B-A955-EB82B41505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dt" idx="3"/>
          </p:nvPr>
        </p:nvSpPr>
        <p:spPr>
          <a:xfrm>
            <a:off x="383508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ill Sans"/>
              </a:rPr>
              <a:t>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2880" y="4704840"/>
            <a:ext cx="496260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i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 admin can manage all LDK system series.(Move to next pag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95000" y="65293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4286-6ADE-4AD1-A47B-9848576BC42A}" type="slidenum">
              <a:rPr b="1" lang="ko-K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6407280"/>
            <a:ext cx="9153360" cy="122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434880" y="6510240"/>
            <a:ext cx="1749600" cy="290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144400" y="6548400"/>
            <a:ext cx="380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1560"/>
            <a:ext cx="91425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8040" y="1571760"/>
            <a:ext cx="77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MODEM CONNE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55920" y="5599080"/>
            <a:ext cx="2430360" cy="40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25926" t="29468" r="23988" b="30472"/>
          <a:stretch/>
        </p:blipFill>
        <p:spPr>
          <a:xfrm>
            <a:off x="3141720" y="4503600"/>
            <a:ext cx="2863800" cy="787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916360" y="4508640"/>
            <a:ext cx="331452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176560" y="1595520"/>
          <a:ext cx="479088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6560" y="1595520"/>
                    <a:ext cx="479088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500800" y="3417840"/>
            <a:ext cx="2971800" cy="571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Arial"/>
                <a:ea typeface="바탕"/>
              </a:rPr>
              <a:t>4.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Windows 2000 specific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This is up to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160" y="115920"/>
            <a:ext cx="501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PPP configuration (Windows 2000 c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176560" y="1600200"/>
          <a:ext cx="47908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6560" y="1600200"/>
                    <a:ext cx="47908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873600" y="2643120"/>
            <a:ext cx="34452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02240" y="3876840"/>
            <a:ext cx="2971800" cy="57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Arial"/>
                <a:ea typeface="바탕"/>
              </a:rPr>
              <a:t>5.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New connection is m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You can add a shortcut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160" y="115920"/>
            <a:ext cx="501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PPP configuration (Windows 2000 c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2009880" y="1066680"/>
          <a:ext cx="51242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9880" y="1066680"/>
                    <a:ext cx="51242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827600" y="2886120"/>
            <a:ext cx="3801960" cy="57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Arial"/>
                <a:ea typeface="바탕"/>
              </a:rPr>
              <a:t>6.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Shortcut of New connection is displa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“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Analog Modem Remote Acc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160" y="115920"/>
            <a:ext cx="501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PPP configuration (Windows 2000 c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7040" y="115920"/>
            <a:ext cx="38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PPP connection establis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909880" y="1647720"/>
          <a:ext cx="332424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9880" y="1647720"/>
                    <a:ext cx="332424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753160" y="3687840"/>
            <a:ext cx="3127320" cy="56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Arial"/>
                <a:ea typeface="바탕"/>
              </a:rPr>
              <a:t>1.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Initial windows for new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Enter user ID and correct pass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112760" y="1035000"/>
          <a:ext cx="331488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1035000"/>
                    <a:ext cx="331488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597040" y="4929120"/>
          <a:ext cx="3171960" cy="11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7040" y="4929120"/>
                    <a:ext cx="31719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6168960" y="5253120"/>
            <a:ext cx="2629080" cy="57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Arial"/>
                <a:ea typeface="바탕"/>
              </a:rPr>
              <a:t>3.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Once you click “Dial”, you will see the call is in prog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9960" y="1739880"/>
            <a:ext cx="3940200" cy="80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Arial"/>
                <a:ea typeface="바탕"/>
              </a:rPr>
              <a:t>2.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Check the ID and pass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The password is encrypted so that it seems to be very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040" y="115920"/>
            <a:ext cx="38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PPP connection establis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35080" y="4119480"/>
            <a:ext cx="93816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896760" y="1417680"/>
          <a:ext cx="31719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1417680"/>
                    <a:ext cx="31719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042920" y="3648240"/>
          <a:ext cx="3162240" cy="116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3648240"/>
                    <a:ext cx="3162240" cy="11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4189320" y="1844640"/>
            <a:ext cx="3484800" cy="571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Arial"/>
                <a:ea typeface="바탕"/>
              </a:rPr>
              <a:t>3.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When the line is connected, user name and password is ver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67240" y="3843360"/>
            <a:ext cx="3819600" cy="57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Arial"/>
                <a:ea typeface="바탕"/>
              </a:rPr>
              <a:t>4.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If the verification is successful, the PPP connection is available for data ex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040" y="115920"/>
            <a:ext cx="38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PPP connection establis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404640" y="861840"/>
          <a:ext cx="472464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861840"/>
                    <a:ext cx="472464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4119480" y="4792680"/>
            <a:ext cx="4572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442120" y="2898720"/>
          <a:ext cx="3286080" cy="32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42120" y="2898720"/>
                    <a:ext cx="328608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380200" y="1596960"/>
            <a:ext cx="3243240" cy="571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Arial"/>
                <a:ea typeface="바탕"/>
              </a:rPr>
              <a:t>5.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Status of the connection can be checked with the right click of the ic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040" y="115920"/>
            <a:ext cx="38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PPP connection establis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8840" y="11592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PPP conn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7920" y="863640"/>
            <a:ext cx="3243240" cy="463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  <a:ea typeface="바탕"/>
              </a:rPr>
              <a:t>ipLDK-60 IP : 10.0.0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  <a:ea typeface="바탕"/>
              </a:rPr>
              <a:t>PC IP            : 10.0.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3560" y="2205000"/>
          <a:ext cx="475308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2205000"/>
                    <a:ext cx="47530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58880" y="3917880"/>
          <a:ext cx="5172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880" y="3917880"/>
                    <a:ext cx="517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77920" y="1778040"/>
            <a:ext cx="3243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  <a:ea typeface="바탕"/>
              </a:rPr>
              <a:t>1. Telnet connection to system (10.0.0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4760" y="5338800"/>
            <a:ext cx="397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  <a:ea typeface="바탕"/>
              </a:rPr>
              <a:t>2. PC Admin LAN connection to system (10.0.0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1800" y="5832360"/>
            <a:ext cx="3976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  <a:ea typeface="바탕"/>
              </a:rPr>
              <a:t>3. DB Up/Download &amp; S/W Up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828800" y="1176480"/>
          <a:ext cx="5486400" cy="45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176480"/>
                    <a:ext cx="5486400" cy="45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78840" y="115920"/>
            <a:ext cx="25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PPP Dis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76200" y="1052640"/>
            <a:ext cx="1376640" cy="1160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27640" y="1171440"/>
            <a:ext cx="1202040" cy="1185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240" y="115920"/>
            <a:ext cx="50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Remote Access through Analog 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4920" y="1082520"/>
            <a:ext cx="2167200" cy="1251000"/>
          </a:xfrm>
          <a:prstGeom prst="cloudCallout">
            <a:avLst>
              <a:gd name="adj1" fmla="val 43921"/>
              <a:gd name="adj2" fmla="val 2068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T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657520" y="1677960"/>
            <a:ext cx="606240" cy="3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50040" y="1687680"/>
            <a:ext cx="807840" cy="8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0240" y="2674800"/>
            <a:ext cx="799632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체"/>
              </a:rPr>
              <a:t>For Modem connection, MODU must be installed in ipLDK-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체"/>
              </a:rPr>
              <a:t>Recommended Speed: 9600 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체"/>
              </a:rPr>
              <a:t>Connection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- Normal Dial-up connection / PPP (Point-to-Point Protocol)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mote maintenance (Console commands available as with RS-23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mote Admin Programming via PC-Ad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mote S/W Upg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mote Database Up/Down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0" t="11261" r="0" b="15173"/>
          <a:stretch/>
        </p:blipFill>
        <p:spPr>
          <a:xfrm>
            <a:off x="7499520" y="1601640"/>
            <a:ext cx="668160" cy="344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89160" y="1963800"/>
            <a:ext cx="56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63480" y="1530360"/>
            <a:ext cx="811548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m Assignment : PGM 1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 Number : PGM 170 – BTN 1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Call need to be transfe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 line Number : PGM 170 – BTN 2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 line is dedicated for 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can assign either a station number or a CO line number for Mod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t bot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S-232 PORT SETTING for COM 2 (MODU) : PGM 174 – BT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ud Rate : BT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S/RTS : BT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ettings are between CPU and MO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ual modem speed is determined when the connection is esta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ion speed is negotiated by the modems without any inter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ipLDK-60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P Usage : PGM 108 – BTN 6 (ON/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914400"/>
            <a:ext cx="36576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 for Mo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9760" y="98280"/>
            <a:ext cx="5951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n Programming for Modem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5600" y="115920"/>
            <a:ext cx="51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Normal Dial-up Connection via PC Ad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33360" y="787320"/>
          <a:ext cx="257796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787320"/>
                    <a:ext cx="25779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65040" y="2036880"/>
          <a:ext cx="2416320" cy="10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040" y="2036880"/>
                    <a:ext cx="241632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68280" y="3300480"/>
          <a:ext cx="3105000" cy="13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8280" y="3300480"/>
                    <a:ext cx="3105000" cy="13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61800" y="4836960"/>
          <a:ext cx="2505240" cy="115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1800" y="4836960"/>
                    <a:ext cx="250524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3863880" y="1136520"/>
            <a:ext cx="44704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Select Modem Connection in PC Ad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2203560"/>
            <a:ext cx="5051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Press Setting to check if the modem is properly con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14640" y="3879720"/>
            <a:ext cx="45309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Modem configuration is s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14640" y="5340240"/>
            <a:ext cx="45309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Enter Admin Password if program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54160" y="2031840"/>
          <a:ext cx="5371920" cy="40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2031840"/>
                    <a:ext cx="5371920" cy="40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50920" y="819000"/>
          <a:ext cx="3038400" cy="87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819000"/>
                    <a:ext cx="30384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5600" y="115920"/>
            <a:ext cx="51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Normal Dial-up Connection via PC Ad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11520" y="1060560"/>
            <a:ext cx="4035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Wait until connection is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30840" y="3917880"/>
            <a:ext cx="3311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Connection set-up is fin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4160" y="115920"/>
            <a:ext cx="501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PPP configuration (Windows 2000 c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70040" y="1020600"/>
          <a:ext cx="542916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1020600"/>
                    <a:ext cx="542916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5132520" y="2684520"/>
            <a:ext cx="3360600" cy="57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Arial"/>
                <a:ea typeface="바탕"/>
              </a:rPr>
              <a:t>1.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Make New Connection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“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Network and Dial-up Connectio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176560" y="1595520"/>
          <a:ext cx="479088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6560" y="1595520"/>
                    <a:ext cx="479088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74160" y="115920"/>
            <a:ext cx="501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PPP configuration (Windows 2000 c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171880" y="1595520"/>
          <a:ext cx="480060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1880" y="1595520"/>
                    <a:ext cx="480060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975200" y="1114560"/>
            <a:ext cx="342900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Arial"/>
                <a:ea typeface="바탕"/>
              </a:rPr>
              <a:t>2.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Select your 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160" y="115920"/>
            <a:ext cx="501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PPP configuration (Windows 2000 c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992240" y="1692360"/>
          <a:ext cx="480060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2240" y="1692360"/>
                    <a:ext cx="480060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92800" y="4097160"/>
            <a:ext cx="3500280" cy="571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Arial"/>
                <a:ea typeface="바탕"/>
              </a:rPr>
              <a:t>3.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Setting telephone number of ipLDK-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바탕"/>
              </a:rPr>
              <a:t>Here in the example, it’s 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160" y="115920"/>
            <a:ext cx="501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PPP configuration (Windows 2000 c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9T16:04:40Z</dcterms:created>
  <dc:creator>Trevor Simpson</dc:creator>
  <dc:description/>
  <dc:language>en-US</dc:language>
  <cp:lastModifiedBy>김정훈</cp:lastModifiedBy>
  <cp:lastPrinted>2000-09-17T06:44:08Z</cp:lastPrinted>
  <dcterms:modified xsi:type="dcterms:W3CDTF">2006-11-27T09:11:34Z</dcterms:modified>
  <cp:revision>280</cp:revision>
  <dc:subject/>
  <dc:title>No Slide Title</dc:title>
</cp:coreProperties>
</file>